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2CC-AA4F-43D2-A852-D4A3C709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9AC-68FC-49FF-828D-6365B866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7DA-1A3C-4447-81CA-27BCD2DB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026-6446-4742-B5BE-A67764AC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01EB-44CC-45F2-AB47-C98335C8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45C6-DBE8-482F-A5F7-4F0C0E7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CE2D-FBBF-4F32-9106-4DCD3487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A102-8455-4945-9AC6-5C9825B8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93B5-50CF-4C01-A3F3-B196B7DE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3C1-3135-4CA1-BA8A-1A0E2EA5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342-17DD-49FA-A9E2-F8CACA07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982-B35D-4B54-86E5-0F4B98E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06E-9F72-4343-B102-3B14D5C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F36C-C78E-45B7-882F-123557A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92E4-721F-4D80-9964-7B556B9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CF5E-6AE7-4D00-843A-87D33498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2FE2-95DC-48E2-B567-37623930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FA-C2D9-42F2-ABF5-E0C56A4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43C-2F60-42EC-BBC0-6395DE8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F8F-E7C2-474B-80DD-470DD52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0D2-0430-4E78-9F3C-CB60977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7C7-7148-4073-A132-A735671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B7A-C9D0-4770-B8B2-C8F626B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8EE-6567-4288-BC39-6308818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360"/>
              <a:chOff x="0" y="1609560"/>
              <a:chExt cx="9144000" cy="4143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2880"/>
                <a:ext cx="9144000" cy="1047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960"/>
                <a:ext cx="9144000" cy="1029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4FD-2B46-4F43-877C-A7986AA20F0E}" type="slidenum"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360"/>
              <a:chOff x="0" y="3200400"/>
              <a:chExt cx="9144000" cy="41436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3720"/>
                <a:ext cx="9144000" cy="1047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8480"/>
                <a:ext cx="9144000" cy="1029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440"/>
                <a:ext cx="9144000" cy="1033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CFB-CE4A-4B1E-832C-7532F24CC9A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LAB RULES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35049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 Black"/>
              </a:rPr>
              <a:t>Your life depends on it.</a:t>
            </a:r>
            <a:endParaRPr b="0" lang="en-US" sz="7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Acid burn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4041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4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86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Know location of safety equipment and how to use i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ccff"/>
                </a:solidFill>
                <a:latin typeface="Arial Black"/>
              </a:rPr>
              <a:t>Safety Equipment</a:t>
            </a:r>
            <a:endParaRPr b="0" lang="en-US" sz="6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070000" cy="458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36338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 Black"/>
              </a:rPr>
              <a:t>Fire Extinguishers</a:t>
            </a:r>
            <a:endParaRPr b="0" lang="en-US" sz="60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2095560"/>
            <a:ext cx="22082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ULL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he pi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356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IM low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4127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4647960"/>
            <a:ext cx="71625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QUEEZE 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65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457164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Sweep</a:t>
            </a:r>
            <a:endParaRPr b="0" lang="en-US" sz="1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1982880"/>
            <a:ext cx="32893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5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881360"/>
            <a:ext cx="79246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Do not eat or drink in the lab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6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133720"/>
            <a:ext cx="86104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oint test tubes away from </a:t>
            </a: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people when heat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Groups of 2-3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lank piece of paper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i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st as many safety rules as you can  (14 tota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7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458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port all accidents, spills or injuries to your teacher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8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362320"/>
            <a:ext cx="8686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work only when teacher is present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9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86108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Do not use cracked glassware. Throw it away properly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0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No Horseplay or practical jok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1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Avoid inhaling chemical fum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2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ear proper lab clothes: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Tie back hair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No open toed sho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13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000160"/>
            <a:ext cx="81532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Do not throw anything away in si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14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000160"/>
            <a:ext cx="8534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lways add acid to water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 Black"/>
              </a:rPr>
              <a:t>Location of safety equipment</a:t>
            </a:r>
            <a:endParaRPr b="0" lang="en-US" sz="60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e extinguish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g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r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fety show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e blan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SDS shee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cuba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oken glass box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mergency cut off for power/gas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6 gas val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Petri dis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Beak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Watch gla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. Erlenmeyer Flas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. Graduated Cylind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6. Funnel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7. Test Tube ra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o only the experiments assigned 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. cor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9. Rubber stopp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0. Test-tube hold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1. Bal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 Microsc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3. Coversli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4. Scalp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5. Force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6. Prob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7. Inoculating Loo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8. Pipet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9. Pasteur Pipet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. Stirring r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1. Spatul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2. Thermo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3. Dropp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4. Strik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5. Hot Pl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6. Mortar and pest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7. Bunsen Burn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8. Ring St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2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Read the lab procedures FIRS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3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Use the safety equipment at all tim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ccff"/>
                </a:solidFill>
                <a:latin typeface="Arial Black"/>
              </a:rPr>
              <a:t>Safety Goggles</a:t>
            </a:r>
            <a:endParaRPr b="0" lang="en-US" sz="6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90520" y="2048040"/>
            <a:ext cx="67183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Acid Damage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1360" y="2023920"/>
            <a:ext cx="4432320" cy="293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2844720"/>
            <a:ext cx="4432320" cy="300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29240" y="202896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Base Damage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4127400" cy="31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4800" y="2792520"/>
            <a:ext cx="466092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Flying Glass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203720" cy="360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2565360"/>
            <a:ext cx="4356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4T21:40:40Z</dcterms:created>
  <dc:creator>GISD</dc:creator>
  <dc:description/>
  <dc:language>en-US</dc:language>
  <cp:lastModifiedBy> </cp:lastModifiedBy>
  <dcterms:modified xsi:type="dcterms:W3CDTF">2008-08-24T19:47:28Z</dcterms:modified>
  <cp:revision>15</cp:revision>
  <dc:subject/>
  <dc:title>LAB R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2554252</vt:r8>
  </property>
  <property fmtid="{D5CDD505-2E9C-101B-9397-08002B2CF9AE}" pid="3" name="_AuthorEmail">
    <vt:lpwstr>mayleej@cfbisd.edu</vt:lpwstr>
  </property>
  <property fmtid="{D5CDD505-2E9C-101B-9397-08002B2CF9AE}" pid="4" name="_AuthorEmailDisplayName">
    <vt:lpwstr>Maylee, Josh</vt:lpwstr>
  </property>
  <property fmtid="{D5CDD505-2E9C-101B-9397-08002B2CF9AE}" pid="5" name="_EmailSubject">
    <vt:lpwstr>safety and equipment ppt.</vt:lpwstr>
  </property>
</Properties>
</file>